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1AA-44BF-485A-9080-4EADF7C0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0CB-56C9-41DB-9EE6-971B907A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013-A1B5-42A5-9C1B-8E2E51CA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C63-51BF-4862-8B78-4E24F41E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DF3-01A5-4238-B47F-C18A0A9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A97-813F-41A1-8083-BB6E6231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8B1-4092-4FD4-88F2-DA5B9CFB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482-6426-4911-898A-1AA296F4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891-6AE1-4AC5-81E7-42A1D97A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181-D9C6-4EE4-8408-8131A06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5DB-6208-4785-96B9-B583617A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6BD-7EA5-4B3B-ADB5-ABB7842E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35D-A2CB-41F3-9DEE-CA2EB273E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57200"/>
            <a:ext cx="8153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 was the steward of the property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sappointing news did he bring Dav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d Shimei do as David was approach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hur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bishai wanted to kill Shimei, how did David loo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his sit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Hushai satisfy Absalom when question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why he had not stayed with his friend, Dav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3040" y="457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39400" y="83808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hibosheth, grandson of S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9810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phibosheth stayed in Jerusalem thinking the kingdom would return to him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shall see later that 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was a false insin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8769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 may have sent him to curse him, or God will do good to me for this ab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505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sed David, and threw rocks and dust at David and his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4008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ll remain with the one chosen by the Lord and the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572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as the first advice Ahithophel gave Absa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rediction had Nathan, the prophet, made to David about his w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dvice did Ahithophel give Absalom about capturing and killing his f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this plan not carried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Hushai get his warning to Dav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0200" y="990720"/>
            <a:ext cx="72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and lie with David’s concubines; it will be a stench to Dav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4382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 wives would be lain with in public before all Isra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09588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shai told the priests who sent a woman to tell their sons who were waiting outside the city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 me chose 12,000 men and I will pursue David to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49528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shai advised that they gather a large army from all of Israel and then go after David (remember his military savv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572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Jonathan and Ahimaaz escape being captured by Absalom’s 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become of Ahithoph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, _____________, and _____________ brought food and supplies to David at Mahana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bsalom’s forces crossed the Jordan into Gilead, ___________ was his chief cap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Psalms are thought to fit in the period of Absalom’s rebell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371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hid in a well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o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ed while she worked the c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3623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he saw that his advice was not taken, he knew David would win the battle and he knew his fate having rebelled against Dav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601992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alm 3 fits the period of Absalom’s rebel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0481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b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zil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2:43:25Z</dcterms:created>
  <dc:creator>Frank D Vines</dc:creator>
  <dc:description/>
  <dc:language>en-US</dc:language>
  <cp:lastModifiedBy>Frank D Vines</cp:lastModifiedBy>
  <dcterms:modified xsi:type="dcterms:W3CDTF">2005-07-09T03:29:16Z</dcterms:modified>
  <cp:revision>8</cp:revision>
  <dc:subject/>
  <dc:title>Questions and Answers</dc:title>
</cp:coreProperties>
</file>